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21590-F99C-457C-AB03-D7547F8D90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ECD4E-E6D8-4404-96E9-F5C065A66A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8ED7A-C3B9-4870-AB5A-D07A655870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F137-8CA4-452C-B6B7-38F72D068C7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51492-EC48-45B1-B2E7-0DFC3CD836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F508-2EF2-42C0-AED6-8C17C509AA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40C99-7B12-4E8E-8ED7-6F7C2FA35B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D3BE1-D2EE-422C-9E7A-8304785CA3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57B89-CF60-44F5-B489-2C7794E2EE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69F2-8A5F-4FA7-A3C2-F597BFB3A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ED25-C8F9-44EB-A4E0-330EA8A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414F-6C65-42B0-A62C-9FCDEB4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497B-9AFF-4FED-AC82-3FB0DBE95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17E2-920E-4C26-9EA3-48480BA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7D6E-6FF5-497E-9127-83B58720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917C-CA74-4E23-9CE4-B0F6A2C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D5AC-3C0A-4F3B-AB65-2F2D1D02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925D-5E45-4621-B604-18CAE3FE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546F-881F-41AA-8818-E344B110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446C-98AB-4F26-A360-68A7C1A7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2F1F-8B71-4A37-A3B1-CB0B2E4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91E031-D2C4-462F-ACFD-A9246314A2C9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34920" y="134784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especies de animales donde ambos sexos sólo se diferencian por sus órganos sexuales. Se dice que carecen de 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tos animales son los conejos, los gat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hanquetes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34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3060720" y="3189240"/>
            <a:ext cx="27622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512640" y="3168720"/>
            <a:ext cx="2762280" cy="2643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1511280" y="574344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68720" y="5786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5975280" y="3686040"/>
            <a:ext cx="2541600" cy="106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5940360" y="5003640"/>
            <a:ext cx="2519280" cy="12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6335640" y="459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335640" y="600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127620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otras especies, ambos sexos poseen diferencias en su aspecto externo aparte de sus órganos sexuales; se dice que son especies co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pecies con dimorfismo sexual s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lagartijas, los leones, muchas aves, los seres human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079640" y="3600360"/>
            <a:ext cx="3960720" cy="2336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219640" y="3600360"/>
            <a:ext cx="3075120" cy="211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720720" y="3600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419640" y="3240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300720" y="3240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272360" y="5327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6 Imagen" descr="mirlo_bd.jpg"/>
          <p:cNvPicPr/>
          <p:nvPr/>
        </p:nvPicPr>
        <p:blipFill>
          <a:blip r:embed="rId2"/>
          <a:stretch/>
        </p:blipFill>
        <p:spPr>
          <a:xfrm>
            <a:off x="4859280" y="3573360"/>
            <a:ext cx="403380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14 Imagen" descr="faisan_bd.jpg"/>
          <p:cNvPicPr/>
          <p:nvPr/>
        </p:nvPicPr>
        <p:blipFill>
          <a:blip r:embed="rId3"/>
          <a:stretch/>
        </p:blipFill>
        <p:spPr>
          <a:xfrm>
            <a:off x="3995640" y="549360"/>
            <a:ext cx="4875480" cy="2752560"/>
          </a:xfrm>
          <a:prstGeom prst="rect">
            <a:avLst/>
          </a:prstGeom>
          <a:ln w="0">
            <a:noFill/>
          </a:ln>
        </p:spPr>
      </p:pic>
      <p:pic>
        <p:nvPicPr>
          <p:cNvPr id="98" name="15 Imagen" descr="ciervo_bd.jpg"/>
          <p:cNvPicPr/>
          <p:nvPr/>
        </p:nvPicPr>
        <p:blipFill>
          <a:blip r:embed="rId4"/>
          <a:stretch/>
        </p:blipFill>
        <p:spPr>
          <a:xfrm>
            <a:off x="324000" y="2565360"/>
            <a:ext cx="4444920" cy="34066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11280" y="2492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43280" y="2852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508720" y="9079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771640" y="141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364000" y="342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2:18Z</dcterms:modified>
  <cp:revision>46</cp:revision>
  <dc:subject/>
  <dc:title>Diapositiva 1</dc:title>
</cp:coreProperties>
</file>